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40AE-1198-45AC-BC76-B9B772BE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1DB-B02A-489F-BFBD-1822B5B7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BAA-E444-4904-BF32-F8E250F5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6DB6-DBA0-4BDD-AA6B-82534973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D9BE-E82C-45F6-91DD-642B7BC4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78F-2FF2-486F-A37D-EC2EAE7C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AAB-9A9A-4207-A183-361714D1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6EE-E23D-4A7D-B971-3DEC188B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53A-E7F5-4903-A10C-62F62906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EC5-26C4-4D3F-A4F1-7D6A4B2C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2D3-A55D-460A-BDB5-AC6A04F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A23-D940-415E-B667-5A941757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097F-8C4D-4FBD-BB1B-751F48087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048120" cy="11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احبيبي واحبيبي                        سُلّــمَ الموتُ إل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فتسلَّمنـا حياةً مـن جراحـات يديــك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كـلُّ ميتٍ عاد حيـاًّ والتقى الكلُّ لدي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ـومَ أبطلتَ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المنايا بمواعـيدِ الحيــا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40200" y="0"/>
            <a:ext cx="5203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6576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ُّ حبٍّ قد تفانى مثلُ هذا في  حب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أيُّ ربٍ قد تجلـى مجدُه فوق صليـ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دهشةً بين البرايـا عجباً عند  الشع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هو في البيعةِ حقٌ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وســـلامٌ ولقـــ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94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0"/>
            <a:ext cx="380988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قادكَ الحبُّ إليَّ فتقلدْتَ  الصل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وتحمَّلتَ لأَجلي غصَّةَ الموت  الره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ليتني أَقضي حياتي أُهرقُ العمرَ  سكي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في وصاياك وأَحيا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بيـن أســـرارِ  الفــداء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72000" cy="11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     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حبيبي واحبيبي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أيُّ  حالٍ أنت ف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َن شجاك من مَناك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ما لذا الامرِ شب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   يا حبيبي أيَّ ذنـبٍ      قد صنعت أو كري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  <a:cs typeface="Simplified Arabic"/>
              </a:rPr>
              <a:t>أنت مجهود  جريحٌ</a:t>
            </a:r>
            <a:r>
              <a:rPr b="1" lang="ar-SA" sz="4000" spc="-1" strike="noStrike">
                <a:solidFill>
                  <a:srgbClr val="ffcc99"/>
                </a:solidFill>
                <a:latin typeface="Arial"/>
                <a:ea typeface="Simplified Arab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99"/>
                </a:solidFill>
                <a:latin typeface="Arial"/>
              </a:rPr>
              <a:t>ليس فيـكَ مــن شِفــاء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80880"/>
            <a:ext cx="3886200" cy="9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كنتُ في البستان ليلاً والحشا منّي اضطر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خِفتُ صلّيتُ الى أن عرقٌ مني انسكـ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قلتُ ربّي إن رأيتَ فادفعَنْ عنّي  العطب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حزنُ نفسي فاق </a:t>
            </a:r>
            <a:r>
              <a:rPr b="1" lang="ar-SA" sz="3800" spc="-1" strike="noStrike">
                <a:solidFill>
                  <a:srgbClr val="ffffcc"/>
                </a:solidFill>
                <a:latin typeface="Arial"/>
                <a:cs typeface="Simplified Arabic"/>
              </a:rPr>
              <a:t>وصفاً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كلَّ قــولٍ أو  نــــداءْ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57640" y="0"/>
            <a:ext cx="4973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228600"/>
            <a:ext cx="4038480" cy="9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قد ربطت وضربت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 مثل أدنى  الآثمي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بسياط قد جلدت         مثل شرً المجرمي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  كل هذا من جراكـم     كي تكونوا سالميـ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انظروني هل رأيتـم    </a:t>
            </a:r>
            <a:r>
              <a:rPr b="1" lang="ar-SA" sz="4000" spc="-1" strike="noStrike">
                <a:solidFill>
                  <a:srgbClr val="ffffcc"/>
                </a:solidFill>
                <a:latin typeface="Arial"/>
              </a:rPr>
              <a:t>شبه ذا  تحت السمــاء</a:t>
            </a:r>
            <a:r>
              <a:rPr b="0" lang="ar-SA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7:11:06Z</dcterms:created>
  <dc:creator>SUZANNE.MD</dc:creator>
  <dc:description/>
  <dc:language>en-US</dc:language>
  <cp:lastModifiedBy>HANI SAFI</cp:lastModifiedBy>
  <dcterms:modified xsi:type="dcterms:W3CDTF">2003-04-18T05:48:39Z</dcterms:modified>
  <cp:revision>2</cp:revision>
  <dc:subject/>
  <dc:title>PowerPoint Presentation</dc:title>
</cp:coreProperties>
</file>